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A04-0B55-4BD9-932E-2457729F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266-49E8-4B98-8ACC-5F641301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213-77F5-470E-ADC4-F9637DD6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56A-27AC-4CB9-9596-68AAB094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55E6-B80E-41EA-AFA4-AFF05455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1567-2879-4EFA-B142-125B9F49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A904-1E71-4DED-8F8D-E8D98009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E434-8996-4355-8148-BCFB7FA6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20C4-4759-498A-B79B-6E195A25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E1AD-2F4F-4631-BC7E-0E8494FB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EABD-AD2F-404E-BE71-F9DF6366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7F8-AC72-4F2F-95C6-02852916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EBBB-6FDD-4DCF-BD74-E2191B3D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4B1A-17A5-45A5-8041-9DBBA063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921D-3E41-46F0-9F90-5A368F4E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A959-D470-404F-882B-1D7C3150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8CD5-EE5C-4E98-A720-D2474FE6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357-7545-4988-A4E8-D4C85FFE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499-D10F-417E-8C33-582EF54B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2AF-6428-4ECD-8FBB-1EEC60D3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D72-0CA3-4931-8AD0-72CC0B6F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33E-0AD8-4842-B56D-CB98A9DA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5F3-812F-43CC-9084-D3DDB000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EB3-5597-4244-856D-F6DC17C6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2F14-07B8-451F-BFAA-095FDFCDF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68E9-67F2-4CE8-A15B-36CECA9C4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usiness_cycle_01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  <a:ea typeface="Gulim"/>
              </a:rPr>
              <a:t>The Industrial Revolut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ethro Tull (1674 - 1741)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: seed dri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85800" y="1719360"/>
            <a:ext cx="62866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ohn Kay: Flying shutt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562720" cy="37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609480" y="5175360"/>
            <a:ext cx="71629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ames Hargreaves: spinning jenn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219320" y="2120760"/>
            <a:ext cx="6400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ames Watt: steam engin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929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i Whitney: cotton gi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914400" y="1422360"/>
            <a:ext cx="7162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nry Bessemer: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22936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bert Fulton: paddle wheel steamshi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659124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orge Stephenson: steam locomot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10552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Gulim"/>
              </a:rPr>
              <a:t>Responses to the Industrial Revol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Urban probl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holera epidemics in London prior to the construction of a sewage system (mid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Gulim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 centur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Pol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Craftsmen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Luddites” or “Ludds” (Ned Lu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and the industrial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ited 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estic serv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 trade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dis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grarian based economics to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yet mass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pare an answer for the following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advancements are often just as much a curse for humanity as they are a bles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 cyc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abject poverty in urban ar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fied due to lack of systems in place to reduce suffering, i.e. social progr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An abstract business cyc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982800"/>
            <a:ext cx="830556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Corporat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If the corporation were a person, what kind of person would it be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6" descr="DSM-IV"/>
          <p:cNvPicPr/>
          <p:nvPr/>
        </p:nvPicPr>
        <p:blipFill>
          <a:blip r:embed="rId1"/>
          <a:stretch/>
        </p:blipFill>
        <p:spPr>
          <a:xfrm>
            <a:off x="3386160" y="1905120"/>
            <a:ext cx="2911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cording to DSM IV, a sociopath 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annot follow la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obligations ignor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remorseless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reckless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underhanded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planning defic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tem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s you watch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initial purpose of a corpor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did it become a legal person? And 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ort of person is the corpor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has it become such a pers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ippling Eff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 a stone into a pool of water.  What happe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ne is tech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pples are the far reaching affects of the tech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Gulim"/>
              </a:rPr>
              <a:t>The whys and where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Why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Rapi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Leads to European domination of the plan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Why in the W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Chinese Mandarins resisted any further progress since 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Gulim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 centu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Resources: coal and co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Where did it beg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England by 1780, then rest of Europe 183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Why Engla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gover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freedo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le ca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 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Gulim"/>
              </a:rPr>
              <a:t>Causes of it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Agriculture rev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More productive plants and techniq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Jethro Tull – seed dr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Draught anim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rop ro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rn, turnips, potato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his led to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Population expl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917960" y="1905120"/>
          <a:ext cx="3927600" cy="4190760"/>
        </p:xfrm>
        <a:graphic>
          <a:graphicData uri="http://schemas.openxmlformats.org/drawingml/2006/table">
            <a:tbl>
              <a:tblPr/>
              <a:tblGrid>
                <a:gridCol w="1284480"/>
                <a:gridCol w="1284120"/>
                <a:gridCol w="1359000"/>
              </a:tblGrid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00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/120 mi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0 m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an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mil (1750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Enclosure La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Removal of the commons (shared land of the yeom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Forces peasants to become proletari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tag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1812"/>
          <p:cNvPicPr/>
          <p:nvPr/>
        </p:nvPicPr>
        <p:blipFill>
          <a:blip r:embed="rId1"/>
          <a:stretch/>
        </p:blipFill>
        <p:spPr>
          <a:xfrm>
            <a:off x="6781680" y="4191120"/>
            <a:ext cx="19796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estic System (cottage indust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e by h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w material to finished product all in one sp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home or central 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y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s with text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ical advances; machines do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of power: water then s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y line: specialization in one repetitive m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work cond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les Townshend: crop rot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81464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3:14:23Z</dcterms:created>
  <dc:creator>Generic</dc:creator>
  <dc:description/>
  <dc:language>en-US</dc:language>
  <cp:lastModifiedBy>MacAdmin Kis</cp:lastModifiedBy>
  <cp:lastPrinted>2008-11-16T22:48:56Z</cp:lastPrinted>
  <dcterms:modified xsi:type="dcterms:W3CDTF">2008-11-16T22:49:15Z</dcterms:modified>
  <cp:revision>15</cp:revision>
  <dc:subject/>
  <dc:title>The Industrial Revolution</dc:title>
</cp:coreProperties>
</file>